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6.jpeg" ContentType="image/jpe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13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8D20-40FC-4911-915D-B0CFE375A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1119-4130-4EA2-A62A-A073219A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s paid by practices vary. Vaccine purchasing costs account for about 20% of all pediatric practice exp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do not cover full cost of immuniz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of rural physicians, shows many FPs considering re: continuation of administering all vaccines, especially HPV and MCV4 because of cost and varying levels of in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deferring 12-15 mo Hib because of vaccine shortage except for high risk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FD0B-0896-4A72-8D4B-5464F5FA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refusals:  fears re: autism. Recent Federal court ruling that MMR not connected to autism.  “Major setback for the fight to link autism to vaccines” 5000 families have filed claims against Federal program re:atuism and vaccines.  Aruge that thimerosal weakens immune system, leading to MMR viral infection and aut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1DD5-C2BF-4F59-BF1F-07B8C826E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are free to make choices regarding medical care unless those choices place their child at substantial risk of serious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of harm related to probability of contracting the disease and risk of morbidity and mor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eep contaminated puncture wound and tet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1813-0722-4F29-B325-EA5BFA94C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mmission on Prevention prio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ing clinical preventive services for relative health impact and cost effectiveness.  3 with score of 1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irin use with high-risk adults, immunizing children, and tobacco-use screening and brief inter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4643-19A2-4D6A-9922-70AA5C46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ib deaths in Pennsylvania since 10/08, 5 cases of invasive disease in Minnesota – Associated with vaccine shortage and increased colonization.  Children involved were unvaccinated or undervaccin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year high in measles cases last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15F3-71C1-485F-8AEF-4FA20AF4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accine ann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vaccines – Result in Hep B, IPV ex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A8EF-772E-455C-A8D6-E79BACB6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2/06 – 3 dose series ( 2.4.6 m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08 – 2 dose series – 2, 4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efore 15 weeks, Complete by 8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se after 6 weeks, minimum 4 weeks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tudies re: interchang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virus – previous version associated with intussusception.  Present versions have no association, but strict guidelines re: administration.  New guidelines more flexible.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se by 8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8FD2-A787-4AFD-9480-833BB4132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Hybrid) MMR 90%, DTaP 71% by end of second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Admin) Hispanic 60%, White 40%, African American 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6893-82A5-469D-A4FA-5D32B1519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ssues:  Ignorance, difficulties managing child in clinic, transportation, work, chil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issues: Failure to make return appointment, missed opportunities for well child care, immu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D0F7-E598-4676-86E3-F2624E591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es – Use corrected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E0DD-695C-4012-8408-1CAFB9C38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shot 6mo – 9 years require second dose one month p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3B3-EAF1-42D1-94CD-6899EADC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FB5-74F0-4CBE-B862-F35BCC0E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9CD-4FF6-4DDD-A04F-7596A3D1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0DC-D871-4DA9-9015-47D4B133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179E-2C2A-4B34-B466-1C6A3136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9765-6FDC-478B-AA95-ABE7A739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8596-0A14-40CC-A342-ABFBD2BB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F8D2-1C9B-4226-B24A-80941CAB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4B19-FF95-42C6-9A68-3EDD851C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B101-A108-47C0-B9F4-A14AB0C2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8837-35AE-410A-9949-BE442CA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791-00B9-4378-A8EB-B8F5AF0F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0E33-FDBA-4EB1-BD35-3036FE83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FE66-097F-4F37-B5DB-A17B0281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BADF-D473-4991-95F4-225C0A9D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B957-204B-4C67-8498-E9D4CC98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E55A-694D-44D8-99AB-B7D2E2D9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E64-6B31-4DDC-A9FF-5FDAACE5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FAB-89D7-40B1-A90E-E5FE7AC4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840-461D-4BA0-997B-4F13FFAD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216-7D6A-45DE-954E-7C778A45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3C8-03D8-4330-9B0F-7C20DDBC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5A0-B15A-4A6D-826B-2E31CED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7C0-30D2-4C16-8A41-D5388F6E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6E9E-1B20-4C28-A6A7-E1FEE993D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C0E4-22DA-487B-A669-CB9431B44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vaccinateyourbaby.org/" TargetMode="External"/><Relationship Id="rId3" Type="http://schemas.openxmlformats.org/officeDocument/2006/relationships/hyperlink" Target="http://www.cispimmunize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diatric Immunizations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and Controvers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ne Dooley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rico-toddler-caplain-flower"/>
          <p:cNvPicPr/>
          <p:nvPr/>
        </p:nvPicPr>
        <p:blipFill>
          <a:blip r:embed="rId1"/>
          <a:stretch/>
        </p:blipFill>
        <p:spPr>
          <a:xfrm>
            <a:off x="4876920" y="3581280"/>
            <a:ext cx="36669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en Vaccin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09480" y="1676520"/>
            <a:ext cx="7239240" cy="46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ningitis vaccine (MCV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fres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aged 9-2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d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 olds who have completed their DTaP series but have not received 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18 year olds if they have completed their DTaP series and either missed their Td at 11-12 or it has been 5 years since they received their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een"/>
          <p:cNvPicPr/>
          <p:nvPr/>
        </p:nvPicPr>
        <p:blipFill>
          <a:blip r:embed="rId1"/>
          <a:stretch/>
        </p:blipFill>
        <p:spPr>
          <a:xfrm>
            <a:off x="5715000" y="1600200"/>
            <a:ext cx="27432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ecial Consider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rm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 + m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to a previou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neurologic disorder/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09880" y="5181480"/>
            <a:ext cx="52578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nor illness with or without fever does not contraindicate immu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CAUTION"/>
          <p:cNvPicPr/>
          <p:nvPr/>
        </p:nvPicPr>
        <p:blipFill>
          <a:blip r:embed="rId1"/>
          <a:stretch/>
        </p:blipFill>
        <p:spPr>
          <a:xfrm>
            <a:off x="4743360" y="1600200"/>
            <a:ext cx="34862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ealth System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3886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PV, Rotavirus, MMR-V, MCV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deferral of s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M00322_%5B1%5D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2654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MCj04039850000[1]"/>
          <p:cNvPicPr/>
          <p:nvPr/>
        </p:nvPicPr>
        <p:blipFill>
          <a:blip r:embed="rId2"/>
          <a:stretch/>
        </p:blipFill>
        <p:spPr>
          <a:xfrm>
            <a:off x="304920" y="4800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ental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au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injections, early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elief about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in 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newborn"/>
          <p:cNvPicPr/>
          <p:nvPr/>
        </p:nvPicPr>
        <p:blipFill>
          <a:blip r:embed="rId1"/>
          <a:stretch/>
        </p:blipFill>
        <p:spPr>
          <a:xfrm>
            <a:off x="609480" y="2351160"/>
            <a:ext cx="3886200" cy="2917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47920" y="5486400"/>
            <a:ext cx="6324480" cy="116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ww.vaccinateyourbab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www.cispimmuniz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iatrics: The Problem with Dr. Bob’s Alternative Vaccine Sche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6248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 of pediatricians report recent parental refusal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gious or philosophical gr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s re: injections, combined vacc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/Benefit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3298"/>
          <p:cNvPicPr/>
          <p:nvPr/>
        </p:nvPicPr>
        <p:blipFill>
          <a:blip r:embed="rId1"/>
          <a:stretch/>
        </p:blipFill>
        <p:spPr>
          <a:xfrm>
            <a:off x="6858000" y="1752480"/>
            <a:ext cx="19051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/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cute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entry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Medical Neg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Pj04089610000[1]"/>
          <p:cNvPicPr/>
          <p:nvPr/>
        </p:nvPicPr>
        <p:blipFill>
          <a:blip r:embed="rId1"/>
          <a:stretch/>
        </p:blipFill>
        <p:spPr>
          <a:xfrm>
            <a:off x="5410080" y="1676520"/>
            <a:ext cx="26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mmunizations</a:t>
            </a:r>
            <a:br>
              <a:rPr sz="3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effective component of well child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96 – Edward Jenner develops cowpox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73 – 175,000 Americans died of infectious diseases.  The majority of these were children dying of whooping cough, measles, scarlatina, diphtheri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CAN02493_0000[1]"/>
          <p:cNvPicPr/>
          <p:nvPr/>
        </p:nvPicPr>
        <p:blipFill>
          <a:blip r:embed="rId1"/>
          <a:stretch/>
        </p:blipFill>
        <p:spPr>
          <a:xfrm>
            <a:off x="6056280" y="3962520"/>
            <a:ext cx="2273400" cy="2705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685800" y="590400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9480" y="358128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0 – Pasteur, Koch and others demonstrated that diphtheria and cholera were infectious diseases transmitted by micro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7 – Last known case of smallpox     occurs in Som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munizations 200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Hib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les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unizatio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2133720" y="4572000"/>
            <a:ext cx="4562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mmunization rate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hots up to 2 year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7:  CCRMC 85%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9" descr="baby"/>
          <p:cNvPicPr/>
          <p:nvPr/>
        </p:nvPicPr>
        <p:blipFill>
          <a:blip r:embed="rId1"/>
          <a:stretch/>
        </p:blipFill>
        <p:spPr>
          <a:xfrm>
            <a:off x="5715000" y="1676520"/>
            <a:ext cx="24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3119400" y="1778040"/>
          <a:ext cx="290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9400" y="1778040"/>
                    <a:ext cx="290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6" descr=""/>
          <p:cNvPicPr/>
          <p:nvPr/>
        </p:nvPicPr>
        <p:blipFill>
          <a:blip r:embed="rId3"/>
          <a:srcRect l="0" t="0" r="0" b="19463"/>
          <a:stretch/>
        </p:blipFill>
        <p:spPr>
          <a:xfrm>
            <a:off x="457200" y="1463760"/>
            <a:ext cx="82263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otavirus Vacc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of severe diarrhea in infants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14 of children in US seen in ER or admitted by 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, oral 2 or 3 dos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-98% protection vs sever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baby"/>
          <p:cNvPicPr/>
          <p:nvPr/>
        </p:nvPicPr>
        <p:blipFill>
          <a:blip r:embed="rId1"/>
          <a:stretch/>
        </p:blipFill>
        <p:spPr>
          <a:xfrm>
            <a:off x="901800" y="2050920"/>
            <a:ext cx="3301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6520" y="1752120"/>
            <a:ext cx="5791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ization rates drop in the second year of life, especially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MR rates 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aP rates 7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disparity for African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Pre-Toddler"/>
          <p:cNvPicPr/>
          <p:nvPr/>
        </p:nvPicPr>
        <p:blipFill>
          <a:blip r:embed="rId1"/>
          <a:stretch/>
        </p:blipFill>
        <p:spPr>
          <a:xfrm>
            <a:off x="533520" y="2438280"/>
            <a:ext cx="20574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contributing to toddler g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 coverag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 administr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hots – MMR,VZV,HI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V,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/famil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5334120" y="4343400"/>
            <a:ext cx="300996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Toddler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child visits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 important!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Picture 5" descr="MCj035797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4158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ordinating Immunizations with a  well child exa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child sched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en 1 week, 1 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ly from 2-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re: well 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visits for developmental screening, anticipatory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 administration of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relationship with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oddler"/>
          <p:cNvPicPr/>
          <p:nvPr/>
        </p:nvPicPr>
        <p:blipFill>
          <a:blip r:embed="rId1"/>
          <a:stretch/>
        </p:blipFill>
        <p:spPr>
          <a:xfrm>
            <a:off x="7346880" y="2743200"/>
            <a:ext cx="179712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533520" y="5478480"/>
            <a:ext cx="7924680" cy="86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appoint to the next well child visit with PC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533520" y="1447920"/>
          <a:ext cx="807696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8:37:05Z</dcterms:created>
  <dc:creator> </dc:creator>
  <dc:description/>
  <dc:language>en-US</dc:language>
  <cp:lastModifiedBy>nsmith</cp:lastModifiedBy>
  <dcterms:modified xsi:type="dcterms:W3CDTF">2009-03-27T18:25:25Z</dcterms:modified>
  <cp:revision>25</cp:revision>
  <dc:subject/>
  <dc:title>Doing Our Best –  CCRMC Well Child Care 0-18 months</dc:title>
</cp:coreProperties>
</file>